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0A3-9EC8-4024-9CA2-0740E96B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1C2-DAAB-45A2-AD9A-5519438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B21-0A2A-43E5-A2A0-E4B75F40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787-2A90-4E5A-BE67-6ED1F691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253-7053-410A-A26C-08A509B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A8A-BAD4-49E4-B742-E7AA941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33F-174A-406A-9584-15548756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C20-C553-44DD-8C5A-6933B12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A7A-4B15-425B-89CC-0D4E8CA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12C-5F57-471F-B168-5A54D44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4AF-9A3A-4BE3-8248-D2E4CAB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5DE-F231-4923-958B-F413114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8F7A-16A4-4CCC-85B3-D08096D41E2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Rivers Terminolog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dens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oling of a gas so that it changes into a liquid, for instance as water vapour cools, it condenses to become water droplets, which, when heavy enough, fall as r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fluenc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here two rivers meet and join to form one larger riv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lta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 build up of sediment at the point where a river meets a sea or lake, due to the water velocity slowing and the river having less energy to carry the sedi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rainage Basi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rea of land drained by a river and its tributa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stuar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point at which a river begins to meet the sea. The river will be tidal, meaning that it will have both salt water and fresh water in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apora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ter that is warmed, usually by the sun, so that it changes into a gas (water vapou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vapo-transpir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mbination of evaporation and transpir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uvial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o a river, from the Latin for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ndwat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erc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drolog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y of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ilt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downward movement of water that seeps into the soil or a porous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uth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 of the river, where it meets the sea, or a l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verland Flow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water flows over the surface of the ground. This occurs for a number of reasons: the soil may be saturated and therefore be unable to absorb any more water; the underlying rock may be impermeable or the ground may be froz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col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water through the soil or underlying porous rock. This water collects as ground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cipit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falling to Earth in any form: e.g. rain, sleet, hail, snow, and dew, all are encompassed by the term precip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rface Run-of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Overland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oughflow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water with in the soil sideways, towards th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ira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ater loss from vegetation into the atmosp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butari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ivers running into the main one, that form part of the same drainage basin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ocit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eed of the flow of the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sh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aginary dividing line between neighbouring drainage bas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03:04Z</dcterms:created>
  <dc:creator>Dell_02</dc:creator>
  <dc:description/>
  <dc:language>en-US</dc:language>
  <cp:lastModifiedBy>Dell_02</cp:lastModifiedBy>
  <dcterms:modified xsi:type="dcterms:W3CDTF">2011-01-26T18:17:12Z</dcterms:modified>
  <cp:revision>2</cp:revision>
  <dc:subject/>
  <dc:title>Rivers Terminology</dc:title>
</cp:coreProperties>
</file>